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031-69E5-4367-A1AF-856246AE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B13-5870-4065-8C83-1F63AC1B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00A-9D32-48C0-A980-8D27EF45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D2C-9CEC-48F0-BE94-3C1B6295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7E11-E9A5-45EA-9112-D5649A84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F0BE-2A47-49B6-B578-3F70140E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309D-0328-4B30-8481-AB19E514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C55A-D734-445B-BD1E-55E4275B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629D-7CCA-4A36-BEB3-FDEAE680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2962-9E04-4D49-8289-98941433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34C1-44A6-4FD2-9C50-B4A78B27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8F9-0D8F-477A-9CA7-6D068C12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21F7-FC5C-4186-80FB-55853860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022D-1BD0-4C20-BD75-3D6B91E4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A0CD-0701-4549-ABDC-8724DD43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816F-EFEA-419F-A32C-E96422B9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0FCB-7546-4ACC-B24F-BBE6E03D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8F8-B57C-43AE-96F8-6282B07E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78F-B156-42BC-A901-7731CC1A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023-6A88-42EA-A6C8-1907F7CF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5CE-9561-4D21-857C-049EB2CB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B36-3DDD-43B9-BBC7-7D0E23B3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D08-8D8A-4BE7-AFF1-9C45C644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7EF6-6753-4ED2-B855-06D35FB4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B358-42C6-4F38-882B-E4E295614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D87B-0D35-446E-9CF2-37F87CC47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721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auses of WW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90560" y="2742840"/>
            <a:ext cx="518148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lita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li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per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gnificant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404640"/>
            <a:ext cx="403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A. Finemess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ww.SchoolHistory.co.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1.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8 June 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ir to Austrian throne Franz Ferdinand visits Saraje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ital of Bosnia, recently grabbed by A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tbed of Slav 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59440" y="1752480"/>
            <a:ext cx="3017880" cy="2691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286680" y="4545000"/>
            <a:ext cx="1714320" cy="1703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13360" y="495144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al of the Black Hand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2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lack Hand” terrorists attack the Arch D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mb attempt fails in mo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vrilo Princip shoots Archduke and wife in the aftern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strians blame Serbia for supporting terror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781680" y="1752480"/>
            <a:ext cx="1752840" cy="228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64200" y="4191120"/>
            <a:ext cx="1494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3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strians, supported by Germany, send Serbia a tough ultima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bia agrees to all but two terms of the ultima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ssia mobilises her troops to support 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 demands that Russia stands her armies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 declares war on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477120" y="3733920"/>
            <a:ext cx="160020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248520" y="2209680"/>
            <a:ext cx="213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mands must be put to Serbia that would be wholly impossible for them to accept 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Why did Britain get involved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26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itain ha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ten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ith France and Rus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“friendly agreements” but French and Russians given impression Britain would f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chlieffe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83160" y="2971800"/>
            <a:ext cx="2192400" cy="2743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410080" y="1981080"/>
            <a:ext cx="266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ir Edward Gr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ritish Foreign Secretary  … “There’s some devilry going on in Berli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Schlieffen Pl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rmany’s military plan to defeat France and Rus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nock out blow” aimed at France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void French defences by invasion of Belg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rmans thought Britain would not interv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4290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Britain’s Rea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3810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38- UK had signed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eat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protect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also scared of Germany controllin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por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not wan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defeat France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minate Europ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 Britain n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K issue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ltimat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Germany to withdraw troops from Belgium.  War declared August 4 19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226120" y="1676520"/>
            <a:ext cx="3308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Militarism 1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y was competing with the UK to build battle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ritish feared an attack on their 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67440" y="1981080"/>
            <a:ext cx="254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Militarism 2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y was competing with Russia and France to expand their ar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88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3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.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73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.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40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46640" y="3962520"/>
            <a:ext cx="2463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llia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1914 all the major powers were linked by a system of alli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lliances made it more likely that a war would st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started, the alliances made it more likely to sp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24280" y="2119320"/>
            <a:ext cx="388944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Imperi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the great powers were competing for colonies / terri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ritish feared Germany in Af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ustrians feared Serbia / Russia in the Balk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Nation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was an age when all nations wanted to assert their power and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Europe Slavs, aided by Serbia and Russia, wanted to be free of Austrian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173480" y="3886200"/>
            <a:ext cx="1693800" cy="2666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67280" y="4724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bia’s national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1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iser Wilhelm I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ilt up German army and na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ggressive foreign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rmined to make Germany a top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rusted by other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611760" y="3092400"/>
            <a:ext cx="2075040" cy="2927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477120" y="17812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ermany must have its place in the su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world belongs to the strong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unt Bercht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strian Prime Min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uring the July Crisis, decided on a very tough ultimatum for Ser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11800" y="1752480"/>
            <a:ext cx="240012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410080" y="518148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ere the Serbs to agree to all the demands, this would not be to my lik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thmann Hollw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 Prime Min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ve very strong support to Austria during the July crisis while Kaiser was cruising on his ya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02440" y="1752480"/>
            <a:ext cx="2027160" cy="2660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72200" y="4565520"/>
            <a:ext cx="2514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 Austrian demands are moderate.  Any interference by Britain, France and Russia would be followed by incalculable consequenc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8:16:01Z</dcterms:created>
  <dc:creator>nshaw</dc:creator>
  <dc:description/>
  <dc:language>en-US</dc:language>
  <cp:lastModifiedBy>Nicole Leach</cp:lastModifiedBy>
  <dcterms:modified xsi:type="dcterms:W3CDTF">2009-02-10T10:03:24Z</dcterms:modified>
  <cp:revision>17</cp:revision>
  <dc:subject/>
  <dc:title>The Causes of WW1</dc:title>
</cp:coreProperties>
</file>